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7a6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EA5-E7C9-417F-A122-2ED150EF98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79F-2578-446F-82A6-8AE211707BD4}" type="slidenum">
              <a:rPr b="0" lang="en-GB" sz="1200" spc="-1" strike="noStrike">
                <a:solidFill>
                  <a:srgbClr val="003b6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B42-8D78-4675-911A-FA75AB02E062}" type="slidenum">
              <a:rPr b="0" lang="en-US" sz="1200" spc="-1" strike="noStrike">
                <a:solidFill>
                  <a:srgbClr val="003b6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3CC-A2EC-406B-9E6A-D725C17E74B3}" type="slidenum">
              <a:rPr b="0" lang="en-US" sz="1200" spc="-1" strike="noStrike">
                <a:solidFill>
                  <a:srgbClr val="003b6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0A38-9CC7-494F-8E43-BB62B051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2E18-DA6A-4EA9-88E7-89017BBFA4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C2F7-D95B-45A8-B78A-D3DB77305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488B-D9C7-4113-9D40-8C491010E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9474-C2EF-4484-A5E1-EDA7E84CC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D1E9-E320-403B-ADA3-7A1EB2604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2881-77D6-433C-80D3-C9E80D4A71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C48F-6D8B-42AD-980C-8190C9F96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FBDC-6336-467E-A653-BD429CE2F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44A8-9435-4D9F-A6ED-7F516AB1E1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138E-0999-46D4-8553-B943C111E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3B5B-2C18-4351-AD2E-E6508ED8F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497B-EB60-4100-BAA8-3D455E5CF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ECF0-E54C-416E-B92A-61991B797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BC2C-DA51-4677-82DC-68D0895E98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9275-7F46-43C2-BDDD-D442A81A0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55CC-AF87-4FD4-9879-C01E5FB6C2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7B6-9F41-4A88-B4CC-AD1F071414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4AC-7FFB-472E-A542-250225FC54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3D1-EC7F-42CC-B63C-5E3A837C0E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2C8-9216-445E-A61E-949A93B180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018-1B8B-4F24-B380-6533BAF6D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2BC7-73BA-476C-878A-530D2152E2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79E-6C3E-442C-B9BE-3A86E1D17D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4A9-AD34-4877-9ABB-E920ADC8E3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C44-084F-4C2C-BDE2-0E9A70B8C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167-025F-4BF2-AC91-B508BAA36F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051-0BB1-488F-96A2-545642FEC8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8B8-4524-4D61-9AA6-B99D24BE58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9A4-F32A-49CC-86A9-58A37C7013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0710-910C-4CE4-978B-9751A19BDE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664D-D326-4036-8E25-7FFDDED44F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160D-6367-4BD8-A8C1-18B864380B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7E68-EEFF-4357-A0CD-593F4C0F8B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7E00-DE94-4214-B772-751DCC27EB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F5C1-2BFB-46B1-ADE7-4B8E9C5A34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7a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b6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" y="6476760"/>
            <a:ext cx="11430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A80-66FA-4C78-B58F-C77DFFA5B0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5960" y="6476760"/>
            <a:ext cx="11430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9B1-2801-4F9A-9EB8-F3AF7B905708}" type="slidenum">
              <a:rPr b="0" lang="en-CA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960" y="6476760"/>
            <a:ext cx="11430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46E-51D1-452E-9413-BBE60185EA8D}" type="slidenum">
              <a:rPr b="0" lang="en-CA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ff5"/>
            </a:gs>
            <a:gs pos="100000">
              <a:srgbClr val="c1d4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PPTheader20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7a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b6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7a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b64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b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6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64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PPTheader20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537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PPTheader201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PPTheader20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537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PPTheader201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3537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ACDLabs_logo_7.png"/>
          <p:cNvPicPr/>
          <p:nvPr/>
        </p:nvPicPr>
        <p:blipFill>
          <a:blip r:embed="rId2"/>
          <a:stretch/>
        </p:blipFill>
        <p:spPr>
          <a:xfrm>
            <a:off x="7885080" y="5877000"/>
            <a:ext cx="1077840" cy="830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34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1.png"/><Relationship Id="rId5" Type="http://schemas.openxmlformats.org/officeDocument/2006/relationships/image" Target="../media/image1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12.png"/><Relationship Id="rId12" Type="http://schemas.openxmlformats.org/officeDocument/2006/relationships/image" Target="../media/image8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ff5"/>
            </a:gs>
            <a:gs pos="100000">
              <a:srgbClr val="c1d4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696080" cy="22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Программные средства ACD/Labs</a:t>
            </a:r>
            <a:br>
              <a:rPr sz="2800"/>
            </a:b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для сбора и визуализации</a:t>
            </a:r>
            <a:br>
              <a:rPr sz="2800"/>
            </a:b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химической информации: </a:t>
            </a:r>
            <a:br>
              <a:rPr sz="2800"/>
            </a:b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от химии до фармацевтики</a:t>
            </a:r>
            <a:br>
              <a:rPr sz="2800"/>
            </a:b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809880" y="4572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Ерин Андрей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Verdana"/>
              </a:rPr>
              <a:t>ACD/Labs</a:t>
            </a:r>
            <a:endParaRPr b="0" lang="en-US" sz="24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5715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Международная химическая ассамблея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ICA - 012</a:t>
            </a: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Зеленая Химия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Москва, Россия, 25 октября 2012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Rectangle 3"/>
          <p:cNvGraphicFramePr/>
          <p:nvPr/>
        </p:nvGraphicFramePr>
        <p:xfrm>
          <a:off x="304920" y="1316160"/>
          <a:ext cx="853416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16160"/>
                    <a:ext cx="853416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380880" y="12024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Широкие возможности организации просмотра и ввода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3" descr=""/>
          <p:cNvPicPr/>
          <p:nvPr/>
        </p:nvPicPr>
        <p:blipFill>
          <a:blip r:embed="rId1"/>
          <a:stretch/>
        </p:blipFill>
        <p:spPr>
          <a:xfrm>
            <a:off x="609480" y="2095560"/>
            <a:ext cx="1338480" cy="936720"/>
          </a:xfrm>
          <a:prstGeom prst="rect">
            <a:avLst/>
          </a:prstGeom>
          <a:ln w="0">
            <a:noFill/>
          </a:ln>
        </p:spPr>
      </p:pic>
      <p:pic>
        <p:nvPicPr>
          <p:cNvPr id="433" name="Rectangle 3" descr=""/>
          <p:cNvPicPr/>
          <p:nvPr/>
        </p:nvPicPr>
        <p:blipFill>
          <a:blip r:embed="rId2"/>
          <a:stretch/>
        </p:blipFill>
        <p:spPr>
          <a:xfrm>
            <a:off x="2241720" y="2095560"/>
            <a:ext cx="1338120" cy="936720"/>
          </a:xfrm>
          <a:prstGeom prst="rect">
            <a:avLst/>
          </a:prstGeom>
          <a:ln w="0">
            <a:noFill/>
          </a:ln>
        </p:spPr>
      </p:pic>
      <p:pic>
        <p:nvPicPr>
          <p:cNvPr id="434" name="Rectangle 3" descr=""/>
          <p:cNvPicPr/>
          <p:nvPr/>
        </p:nvPicPr>
        <p:blipFill>
          <a:blip r:embed="rId3"/>
          <a:stretch/>
        </p:blipFill>
        <p:spPr>
          <a:xfrm>
            <a:off x="5489640" y="2077920"/>
            <a:ext cx="1454040" cy="970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609480" y="491652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3886200" y="490212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7238880" y="490212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2209680" y="490212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8"/>
          <a:stretch/>
        </p:blipFill>
        <p:spPr>
          <a:xfrm>
            <a:off x="5562720" y="490212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9"/>
          <a:stretch/>
        </p:blipFill>
        <p:spPr>
          <a:xfrm>
            <a:off x="2209680" y="3559320"/>
            <a:ext cx="1338480" cy="936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0"/>
          <a:stretch/>
        </p:blipFill>
        <p:spPr>
          <a:xfrm>
            <a:off x="5546880" y="3559320"/>
            <a:ext cx="1338120" cy="936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1"/>
          <a:stretch/>
        </p:blipFill>
        <p:spPr>
          <a:xfrm>
            <a:off x="7215120" y="3559320"/>
            <a:ext cx="1338480" cy="936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2"/>
          <a:stretch/>
        </p:blipFill>
        <p:spPr>
          <a:xfrm>
            <a:off x="542880" y="3559320"/>
            <a:ext cx="1338480" cy="9363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3"/>
          <a:stretch/>
        </p:blipFill>
        <p:spPr>
          <a:xfrm>
            <a:off x="7238880" y="21067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4"/>
          <a:stretch/>
        </p:blipFill>
        <p:spPr>
          <a:xfrm>
            <a:off x="3878280" y="3559320"/>
            <a:ext cx="1338120" cy="936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Разнообразные и сложные данные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5"/>
          <a:stretch/>
        </p:blipFill>
        <p:spPr>
          <a:xfrm>
            <a:off x="3875040" y="2100240"/>
            <a:ext cx="1320840" cy="925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85800" y="990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Разработка и испытание лекарств, контроль продуктов и окружающий среды требуют много сложных 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613080" y="17524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структуры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2288160" y="17524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названия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3812400" y="17524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документы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5641920" y="1752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графики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изображения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45975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хроматограммы, спектры, аналитические кривые и их комбинации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509760" y="318924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Arial"/>
              </a:rPr>
              <a:t>физико-химические, биохимические и токсикологические данные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3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45440" cy="493704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3" descr=""/>
          <p:cNvPicPr/>
          <p:nvPr/>
        </p:nvPicPr>
        <p:blipFill>
          <a:blip r:embed="rId2"/>
          <a:stretch/>
        </p:blipFill>
        <p:spPr>
          <a:xfrm>
            <a:off x="6705720" y="2209680"/>
            <a:ext cx="1155600" cy="789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Сбор и расчет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5758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Возможность автоматического расчета данных в базе данных для всех модулей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ACD/Labs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461" name="Rectangle 3" descr=""/>
          <p:cNvPicPr/>
          <p:nvPr/>
        </p:nvPicPr>
        <p:blipFill>
          <a:blip r:embed="rId2"/>
          <a:stretch/>
        </p:blipFill>
        <p:spPr>
          <a:xfrm>
            <a:off x="1587600" y="5370480"/>
            <a:ext cx="927000" cy="649440"/>
          </a:xfrm>
          <a:prstGeom prst="rect">
            <a:avLst/>
          </a:prstGeom>
          <a:ln w="0">
            <a:noFill/>
          </a:ln>
        </p:spPr>
      </p:pic>
      <p:pic>
        <p:nvPicPr>
          <p:cNvPr id="462" name="Rectangle 3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066680" cy="711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6212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7a6"/>
                </a:solidFill>
                <a:latin typeface="Verdana"/>
              </a:rPr>
              <a:t>I-Lab </a:t>
            </a: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– интернет-приложения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Расчеты свойств предполагают покупку программ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В случае разовых расчетов более оправданно использовать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интернет-приложения </a:t>
            </a:r>
            <a:r>
              <a:rPr b="1" i="1" lang="en-US" sz="1800" spc="-1" strike="noStrike">
                <a:solidFill>
                  <a:srgbClr val="993300"/>
                </a:solidFill>
                <a:latin typeface="Verdana"/>
              </a:rPr>
              <a:t>I-Lab </a:t>
            </a:r>
            <a:r>
              <a:rPr b="1" i="1" lang="ru-RU" sz="1800" spc="-1" strike="noStrike">
                <a:solidFill>
                  <a:srgbClr val="0067a6"/>
                </a:solidFill>
                <a:latin typeface="Verdana"/>
              </a:rPr>
              <a:t>http://ilab.acdlabs.com/iLab2/index.php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26654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I-Lab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позволяет использовать любые расчетные модули</a:t>
            </a:r>
            <a:br>
              <a:rPr sz="1800"/>
            </a:b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ACD/Labs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с оплатой за каждый расчет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Базовые характеристики структур расчитываются бесплатно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42160" y="374976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изико-химические свойства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1158840" y="496728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оменклатура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3360240" y="4967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пектры ЯМР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3747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армакологические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5527800" y="496728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Токсичность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2700360" y="4130640"/>
            <a:ext cx="957240" cy="669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762120" y="4130640"/>
            <a:ext cx="957240" cy="6699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5824440" y="5334120"/>
            <a:ext cx="957240" cy="6699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6815160" y="4130640"/>
            <a:ext cx="957240" cy="669960"/>
          </a:xfrm>
          <a:prstGeom prst="rect">
            <a:avLst/>
          </a:prstGeom>
          <a:ln w="0">
            <a:noFill/>
          </a:ln>
        </p:spPr>
      </p:pic>
      <p:pic>
        <p:nvPicPr>
          <p:cNvPr id="475" name="Rectangle 3" descr=""/>
          <p:cNvPicPr/>
          <p:nvPr/>
        </p:nvPicPr>
        <p:blipFill>
          <a:blip r:embed="rId8"/>
          <a:stretch/>
        </p:blipFill>
        <p:spPr>
          <a:xfrm>
            <a:off x="4863960" y="4151160"/>
            <a:ext cx="92736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1920" cy="961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6212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7a6"/>
                </a:solidFill>
                <a:latin typeface="Verdana"/>
              </a:rPr>
              <a:t>I-Lab </a:t>
            </a: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– интернет-приложения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graphicFrame>
        <p:nvGraphicFramePr>
          <p:cNvPr id="478" name="Rectangle 3"/>
          <p:cNvGraphicFramePr/>
          <p:nvPr/>
        </p:nvGraphicFramePr>
        <p:xfrm>
          <a:off x="380880" y="1066680"/>
          <a:ext cx="8305920" cy="47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066680"/>
                    <a:ext cx="830592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368360" y="6019920"/>
            <a:ext cx="50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ример расчета биодоступности в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I-Lab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1920" cy="9619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6212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7a6"/>
                </a:solidFill>
                <a:latin typeface="Verdana"/>
              </a:rPr>
              <a:t>I-Lab </a:t>
            </a: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– интернет-приложения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graphicFrame>
        <p:nvGraphicFramePr>
          <p:cNvPr id="483" name="Rectangle 3"/>
          <p:cNvGraphicFramePr/>
          <p:nvPr/>
        </p:nvGraphicFramePr>
        <p:xfrm>
          <a:off x="380880" y="1066680"/>
          <a:ext cx="8305920" cy="474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066680"/>
                    <a:ext cx="830592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457200" y="6019920"/>
            <a:ext cx="78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Оценка  эффектов лекарственного препарата в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I-Lab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Химические названия</a:t>
            </a: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pic>
        <p:nvPicPr>
          <p:cNvPr id="487" name="Picture 18" descr="Name_Struc.png"/>
          <p:cNvPicPr/>
          <p:nvPr/>
        </p:nvPicPr>
        <p:blipFill>
          <a:blip r:embed="rId1"/>
          <a:stretch/>
        </p:blipFill>
        <p:spPr>
          <a:xfrm>
            <a:off x="533520" y="2438280"/>
            <a:ext cx="2598480" cy="1687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9" descr="Name_Name.png"/>
          <p:cNvPicPr/>
          <p:nvPr/>
        </p:nvPicPr>
        <p:blipFill>
          <a:blip r:embed="rId2"/>
          <a:stretch/>
        </p:blipFill>
        <p:spPr>
          <a:xfrm>
            <a:off x="5486400" y="2057400"/>
            <a:ext cx="3376440" cy="27367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09480" y="1066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Специалистов в химической номенклатуре очень мало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Четверть химических названий в научных статьях неправильные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Количество ошибок в патентах еще выше!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2590920"/>
            <a:ext cx="1600200" cy="609480"/>
          </a:xfrm>
          <a:prstGeom prst="rightArrow">
            <a:avLst>
              <a:gd name="adj1" fmla="val 54167"/>
              <a:gd name="adj2" fmla="val 65638"/>
            </a:avLst>
          </a:prstGeom>
          <a:solidFill>
            <a:srgbClr val="9cc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504600" y="3124080"/>
            <a:ext cx="1600200" cy="609840"/>
          </a:xfrm>
          <a:prstGeom prst="rightArrow">
            <a:avLst>
              <a:gd name="adj1" fmla="val 54167"/>
              <a:gd name="adj2" fmla="val 65599"/>
            </a:avLst>
          </a:prstGeom>
          <a:solidFill>
            <a:srgbClr val="9cc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46483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Даже специалист не может избежать опечаток 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Проверки орфографии для химических имен не существует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54100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64"/>
                </a:solidFill>
                <a:latin typeface="Verdana"/>
              </a:rPr>
              <a:t>Химические программы первосходят специалистов в большинстве случаев и не допускают случайных ошибок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Химические названия</a:t>
            </a: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pic>
        <p:nvPicPr>
          <p:cNvPr id="495" name="Rectangle 3" descr=""/>
          <p:cNvPicPr/>
          <p:nvPr/>
        </p:nvPicPr>
        <p:blipFill>
          <a:blip r:embed="rId1"/>
          <a:stretch/>
        </p:blipFill>
        <p:spPr>
          <a:xfrm>
            <a:off x="646200" y="1752480"/>
            <a:ext cx="4002120" cy="4527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257800" y="1752480"/>
            <a:ext cx="25909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Дат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Немец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Англий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Испан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Фин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Итальян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Нидерланд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Португальски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67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7a6"/>
                </a:solidFill>
                <a:latin typeface="Verdana"/>
              </a:rPr>
              <a:t>Шведский</a:t>
            </a:r>
            <a:r>
              <a:rPr b="0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83808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Программа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ACD/Name 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создает систематические названия соединений в соответствии с номенклатурой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IUPAC 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или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CAS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на десяти европейских языках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26708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Систематические имена необходимы для регистрации продуктов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Номенклатурные продукты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ACD/Labs 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используются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ECHA </a:t>
            </a:r>
            <a:r>
              <a:rPr b="1" lang="ru-RU" sz="1600" spc="-1" strike="noStrike">
                <a:solidFill>
                  <a:srgbClr val="993300"/>
                </a:solidFill>
                <a:latin typeface="Verdana"/>
              </a:rPr>
              <a:t>и рекомендованы для </a:t>
            </a: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REACH</a:t>
            </a:r>
            <a:endParaRPr b="0" lang="en-US" sz="16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Локальные и удаленные базы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8377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риведенные выше примеры демонстрируют основные возможности программы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ACD/ChemFolder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44756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Только единственный пользователь может работать с базой данных, возможность работы со сложными типами данных отсуствует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40824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Программа </a:t>
            </a: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ACD/ChemFolder Enterprise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CFE)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позволяет работать с удаленными базами и обеспечивает: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одновременную работу нескольких пользователей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удаленный доступ посредством клиент-сервер системы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работу со спектрами и храматограммами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автоматизацию сбора, контроля и обработки данных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гибкую настройку прав доступа к данным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504" name="Rectangle 3" descr=""/>
          <p:cNvPicPr/>
          <p:nvPr/>
        </p:nvPicPr>
        <p:blipFill>
          <a:blip r:embed="rId1"/>
          <a:stretch/>
        </p:blipFill>
        <p:spPr>
          <a:xfrm>
            <a:off x="3683160" y="2567160"/>
            <a:ext cx="17269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380880" y="2795760"/>
            <a:ext cx="3049560" cy="888480"/>
            <a:chOff x="380880" y="2795760"/>
            <a:chExt cx="3049560" cy="888480"/>
          </a:xfrm>
        </p:grpSpPr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2514600" y="2795760"/>
              <a:ext cx="91584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3"/>
            <a:stretch/>
          </p:blipFill>
          <p:spPr>
            <a:xfrm>
              <a:off x="380880" y="2795760"/>
              <a:ext cx="9162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4"/>
            <a:stretch/>
          </p:blipFill>
          <p:spPr>
            <a:xfrm>
              <a:off x="1447920" y="2795760"/>
              <a:ext cx="91584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"/>
            <a:stretch/>
          </p:blipFill>
          <p:spPr>
            <a:xfrm>
              <a:off x="838080" y="3024000"/>
              <a:ext cx="9907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6"/>
            <a:stretch/>
          </p:blipFill>
          <p:spPr>
            <a:xfrm>
              <a:off x="1981080" y="3024000"/>
              <a:ext cx="99072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"/>
          <p:cNvGrpSpPr/>
          <p:nvPr/>
        </p:nvGrpSpPr>
        <p:grpSpPr>
          <a:xfrm>
            <a:off x="5637240" y="2795760"/>
            <a:ext cx="3127320" cy="888480"/>
            <a:chOff x="5637240" y="2795760"/>
            <a:chExt cx="3127320" cy="888480"/>
          </a:xfrm>
        </p:grpSpPr>
        <p:pic>
          <p:nvPicPr>
            <p:cNvPr id="512" name="" descr=""/>
            <p:cNvPicPr/>
            <p:nvPr/>
          </p:nvPicPr>
          <p:blipFill>
            <a:blip r:embed="rId7"/>
            <a:stretch/>
          </p:blipFill>
          <p:spPr>
            <a:xfrm>
              <a:off x="7315200" y="3024000"/>
              <a:ext cx="93816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8"/>
            <a:stretch/>
          </p:blipFill>
          <p:spPr>
            <a:xfrm>
              <a:off x="6095880" y="3024000"/>
              <a:ext cx="9907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9"/>
            <a:stretch/>
          </p:blipFill>
          <p:spPr>
            <a:xfrm>
              <a:off x="5637240" y="2795760"/>
              <a:ext cx="91584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10"/>
            <a:stretch/>
          </p:blipFill>
          <p:spPr>
            <a:xfrm>
              <a:off x="7848720" y="2795760"/>
              <a:ext cx="91584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11"/>
            <a:stretch/>
          </p:blipFill>
          <p:spPr>
            <a:xfrm>
              <a:off x="6781680" y="2795760"/>
              <a:ext cx="88596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4464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Спектры в базе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927360" cy="6332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209680" y="1523880"/>
            <a:ext cx="927360" cy="6336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4114800" y="388620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927360" cy="6332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8001000" y="167652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8"/>
          <a:stretch/>
        </p:blipFill>
        <p:spPr>
          <a:xfrm>
            <a:off x="2362320" y="510552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9"/>
          <a:stretch/>
        </p:blipFill>
        <p:spPr>
          <a:xfrm>
            <a:off x="7543800" y="2438280"/>
            <a:ext cx="927000" cy="6336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10"/>
          <a:stretch/>
        </p:blipFill>
        <p:spPr>
          <a:xfrm>
            <a:off x="2362320" y="373392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11"/>
          <a:stretch/>
        </p:blipFill>
        <p:spPr>
          <a:xfrm>
            <a:off x="533520" y="1981080"/>
            <a:ext cx="927000" cy="633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2"/>
          <a:stretch/>
        </p:blipFill>
        <p:spPr>
          <a:xfrm>
            <a:off x="457200" y="5181480"/>
            <a:ext cx="92700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Погоня за информацией</a:t>
            </a: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pic>
        <p:nvPicPr>
          <p:cNvPr id="367" name="Rectangle 3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1800360" cy="124164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3" descr=""/>
          <p:cNvPicPr/>
          <p:nvPr/>
        </p:nvPicPr>
        <p:blipFill>
          <a:blip r:embed="rId2"/>
          <a:stretch/>
        </p:blipFill>
        <p:spPr>
          <a:xfrm>
            <a:off x="6934320" y="2590920"/>
            <a:ext cx="1823760" cy="1423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705720" y="1447920"/>
            <a:ext cx="1587240" cy="2022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1904760" cy="3809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57200" y="867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олучение и обработка информации - неотъемлемая часть любой работы, кроме физическо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15238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Поиск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Хранение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Анализ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Передача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352680"/>
            <a:ext cx="5105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3352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Бумага, как носитель, уходит в прошлое, но медленно!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3430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Электронное хранение значительно облегчает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работу с информацией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3337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Но! Объем и разнообразие информации резко возросли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Каждый тип данных требует своей программы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Нет возможности совместить различные типы 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2818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Не нашел = потерял!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031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57200" y="22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Спектры в базе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927000" cy="6332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927000" cy="6336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781680" y="3124080"/>
            <a:ext cx="920880" cy="628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09480" y="2819520"/>
            <a:ext cx="920880" cy="6285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7391520" y="4648320"/>
            <a:ext cx="92052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1581120" cy="1068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87360" y="3124080"/>
            <a:ext cx="838080" cy="5875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838080" cy="5875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895480" y="1986120"/>
            <a:ext cx="908280" cy="6048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387360" y="3962520"/>
            <a:ext cx="907920" cy="604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905120" y="5029200"/>
            <a:ext cx="858600" cy="5875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4267080" y="3124080"/>
            <a:ext cx="908280" cy="604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4267080" y="3962520"/>
            <a:ext cx="838440" cy="5871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0"/>
          <a:stretch/>
        </p:blipFill>
        <p:spPr>
          <a:xfrm>
            <a:off x="1828800" y="1986120"/>
            <a:ext cx="838080" cy="5871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1"/>
          <a:stretch/>
        </p:blipFill>
        <p:spPr>
          <a:xfrm>
            <a:off x="2971800" y="5029200"/>
            <a:ext cx="811080" cy="568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2"/>
          <a:stretch/>
        </p:blipFill>
        <p:spPr>
          <a:xfrm>
            <a:off x="3886200" y="4648320"/>
            <a:ext cx="907920" cy="604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3"/>
          <a:stretch/>
        </p:blipFill>
        <p:spPr>
          <a:xfrm>
            <a:off x="3886200" y="2286000"/>
            <a:ext cx="907920" cy="604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57200" y="151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Храните информацию</a:t>
            </a:r>
            <a:br>
              <a:rPr sz="2800"/>
            </a:b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в специализированных базах данных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129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Базы данных </a:t>
            </a:r>
            <a:r>
              <a:rPr b="1" lang="en-US" sz="1800" spc="-1" strike="noStrike">
                <a:solidFill>
                  <a:srgbClr val="993300"/>
                </a:solidFill>
                <a:latin typeface="Verdana"/>
              </a:rPr>
              <a:t>ACD/Labs </a:t>
            </a: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озволяют хранить, искать и визуализировать любую информацию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350496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одходят как для простых так и для очень сложных задач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603504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www.acdlabs.com / www.chemlabs.ru</a:t>
            </a:r>
            <a:br>
              <a:rPr sz="1800"/>
            </a:b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Разнообразие данных</a:t>
            </a: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1"/>
          <a:stretch/>
        </p:blipFill>
        <p:spPr>
          <a:xfrm>
            <a:off x="4495680" y="1938240"/>
            <a:ext cx="1278000" cy="893880"/>
          </a:xfrm>
          <a:prstGeom prst="rect">
            <a:avLst/>
          </a:prstGeom>
          <a:ln w="0">
            <a:noFill/>
          </a:ln>
        </p:spPr>
      </p:pic>
      <p:pic>
        <p:nvPicPr>
          <p:cNvPr id="380" name="Rectangle 3" descr=""/>
          <p:cNvPicPr/>
          <p:nvPr/>
        </p:nvPicPr>
        <p:blipFill>
          <a:blip r:embed="rId2"/>
          <a:stretch/>
        </p:blipFill>
        <p:spPr>
          <a:xfrm>
            <a:off x="7391520" y="1903320"/>
            <a:ext cx="1446120" cy="963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57200" y="8535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Производство и разработка химических преператов требует большого количества разнообразных 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9015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Необходима возможность хранения и показа различных типов данных в едином интрефейсе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896080" y="19018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495680" y="2960640"/>
            <a:ext cx="1274760" cy="892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7467480" y="29718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3" descr=""/>
          <p:cNvPicPr/>
          <p:nvPr/>
        </p:nvPicPr>
        <p:blipFill>
          <a:blip r:embed="rId6"/>
          <a:stretch/>
        </p:blipFill>
        <p:spPr>
          <a:xfrm>
            <a:off x="5943600" y="2957400"/>
            <a:ext cx="1320840" cy="9255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3134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Все эти задачи решает химическая база данных 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4200480"/>
            <a:ext cx="723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База данных позволяет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хранить разнородные данные и документы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связать набор данных в единый проект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использовать данные одного проекта в другом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обеспечить поиск информации по всем проектам</a:t>
            </a:r>
            <a:br>
              <a:rPr sz="1800"/>
            </a:b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- анализировать и контролировать данные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Простейшая химическая база</a:t>
            </a:r>
            <a:endParaRPr b="1" lang="en-US" sz="2800" spc="-1" strike="noStrike">
              <a:solidFill>
                <a:srgbClr val="0067a6"/>
              </a:solidFill>
              <a:latin typeface="Verdana"/>
            </a:endParaRPr>
          </a:p>
        </p:txBody>
      </p:sp>
      <p:pic>
        <p:nvPicPr>
          <p:cNvPr id="390" name="Rectangl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338120" cy="936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1338480" cy="936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9900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Минимальная функциональность химической базы 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20570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Химические структуры и реакции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20556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Различные текстовые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данные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4190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Средства анализа</a:t>
            </a:r>
            <a:br>
              <a:rPr sz="1800"/>
            </a:b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и контроля</a:t>
            </a:r>
            <a:r>
              <a:rPr b="1" lang="en-US" sz="1800" spc="-1" strike="noStrike">
                <a:solidFill>
                  <a:srgbClr val="0067a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2438280" y="4038480"/>
            <a:ext cx="1447920" cy="96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" y="1370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Хранение, показ, поиск всех данных и создание отчетов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428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Verdana"/>
              </a:rPr>
              <a:t>Важная дополнительная функциональность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399" name="Rectangle 3" descr=""/>
          <p:cNvPicPr/>
          <p:nvPr/>
        </p:nvPicPr>
        <p:blipFill>
          <a:blip r:embed="rId4"/>
          <a:stretch/>
        </p:blipFill>
        <p:spPr>
          <a:xfrm>
            <a:off x="2438280" y="5105520"/>
            <a:ext cx="1446480" cy="963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03848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7a6"/>
                </a:solidFill>
                <a:latin typeface="Verdana"/>
              </a:rPr>
              <a:t>Визуализация других типов данных</a:t>
            </a:r>
            <a:endParaRPr b="0" lang="en-US" sz="1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3" descr=""/>
          <p:cNvPicPr/>
          <p:nvPr/>
        </p:nvPicPr>
        <p:blipFill>
          <a:blip r:embed="rId1"/>
          <a:stretch/>
        </p:blipFill>
        <p:spPr>
          <a:xfrm>
            <a:off x="771480" y="990720"/>
            <a:ext cx="7381800" cy="496224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3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03" name="Rectangle 3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1155600" cy="789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80880" y="227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База данных – от простого к сложному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227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База данных – от простого к сложному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  <p:pic>
        <p:nvPicPr>
          <p:cNvPr id="406" name="Rectangle 3" descr=""/>
          <p:cNvPicPr/>
          <p:nvPr/>
        </p:nvPicPr>
        <p:blipFill>
          <a:blip r:embed="rId1"/>
          <a:stretch/>
        </p:blipFill>
        <p:spPr>
          <a:xfrm>
            <a:off x="762120" y="949320"/>
            <a:ext cx="7427880" cy="499428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3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Rectangle 3" descr=""/>
          <p:cNvPicPr/>
          <p:nvPr/>
        </p:nvPicPr>
        <p:blipFill>
          <a:blip r:embed="rId3"/>
          <a:stretch/>
        </p:blipFill>
        <p:spPr>
          <a:xfrm>
            <a:off x="4495680" y="4267080"/>
            <a:ext cx="1155960" cy="78912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3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11556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3" descr=""/>
          <p:cNvPicPr/>
          <p:nvPr/>
        </p:nvPicPr>
        <p:blipFill>
          <a:blip r:embed="rId1"/>
          <a:stretch/>
        </p:blipFill>
        <p:spPr>
          <a:xfrm>
            <a:off x="762120" y="949320"/>
            <a:ext cx="7427880" cy="4994280"/>
          </a:xfrm>
          <a:prstGeom prst="rect">
            <a:avLst/>
          </a:prstGeom>
          <a:ln w="0">
            <a:noFill/>
          </a:ln>
        </p:spPr>
      </p:pic>
      <p:pic>
        <p:nvPicPr>
          <p:cNvPr id="411" name="Rectangle 3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1155960" cy="789120"/>
          </a:xfrm>
          <a:prstGeom prst="rect">
            <a:avLst/>
          </a:prstGeom>
          <a:ln w="0">
            <a:noFill/>
          </a:ln>
        </p:spPr>
      </p:pic>
      <p:pic>
        <p:nvPicPr>
          <p:cNvPr id="412" name="Rectangle 3" descr=""/>
          <p:cNvPicPr/>
          <p:nvPr/>
        </p:nvPicPr>
        <p:blipFill>
          <a:blip r:embed="rId3"/>
          <a:stretch/>
        </p:blipFill>
        <p:spPr>
          <a:xfrm>
            <a:off x="4419720" y="480060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13" name="Rectangle 3" descr=""/>
          <p:cNvPicPr/>
          <p:nvPr/>
        </p:nvPicPr>
        <p:blipFill>
          <a:blip r:embed="rId4"/>
          <a:stretch/>
        </p:blipFill>
        <p:spPr>
          <a:xfrm>
            <a:off x="6781680" y="1981080"/>
            <a:ext cx="1155960" cy="7891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155600" cy="789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80880" y="227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База данных – от простого к сложному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762120" y="949320"/>
            <a:ext cx="7427880" cy="4994280"/>
          </a:xfrm>
          <a:prstGeom prst="rect">
            <a:avLst/>
          </a:prstGeom>
          <a:ln w="0">
            <a:noFill/>
          </a:ln>
        </p:spPr>
      </p:pic>
      <p:pic>
        <p:nvPicPr>
          <p:cNvPr id="417" name="Rectangle 3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3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155960" cy="789120"/>
          </a:xfrm>
          <a:prstGeom prst="rect">
            <a:avLst/>
          </a:prstGeom>
          <a:ln w="0">
            <a:noFill/>
          </a:ln>
        </p:spPr>
      </p:pic>
      <p:pic>
        <p:nvPicPr>
          <p:cNvPr id="419" name="Rectangle 3" descr=""/>
          <p:cNvPicPr/>
          <p:nvPr/>
        </p:nvPicPr>
        <p:blipFill>
          <a:blip r:embed="rId4"/>
          <a:stretch/>
        </p:blipFill>
        <p:spPr>
          <a:xfrm>
            <a:off x="4267080" y="4267080"/>
            <a:ext cx="115596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6934320" y="220968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155600" cy="7891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80880" y="227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База данных – от простого к сложному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ff2"/>
            </a:gs>
            <a:gs pos="50000">
              <a:srgbClr val="f5f8f9"/>
            </a:gs>
            <a:gs pos="100000">
              <a:srgbClr val="e6e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3" descr=""/>
          <p:cNvPicPr/>
          <p:nvPr/>
        </p:nvPicPr>
        <p:blipFill>
          <a:blip r:embed="rId1"/>
          <a:stretch/>
        </p:blipFill>
        <p:spPr>
          <a:xfrm>
            <a:off x="762120" y="949320"/>
            <a:ext cx="7427880" cy="499428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155600" cy="78912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3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155960" cy="788760"/>
          </a:xfrm>
          <a:prstGeom prst="rect">
            <a:avLst/>
          </a:prstGeom>
          <a:ln w="0">
            <a:noFill/>
          </a:ln>
        </p:spPr>
      </p:pic>
      <p:pic>
        <p:nvPicPr>
          <p:cNvPr id="426" name="Rectangle 3" descr=""/>
          <p:cNvPicPr/>
          <p:nvPr/>
        </p:nvPicPr>
        <p:blipFill>
          <a:blip r:embed="rId4"/>
          <a:stretch/>
        </p:blipFill>
        <p:spPr>
          <a:xfrm>
            <a:off x="4038480" y="4191120"/>
            <a:ext cx="115596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5791320" y="2666880"/>
            <a:ext cx="1155600" cy="7891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80880" y="227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7a6"/>
                </a:solidFill>
                <a:latin typeface="Verdana"/>
              </a:rPr>
              <a:t>База данных – от простого к сложному</a:t>
            </a:r>
            <a:endParaRPr b="0" lang="en-US" sz="2800" spc="-1" strike="noStrike">
              <a:solidFill>
                <a:srgbClr val="003b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52:27Z</dcterms:created>
  <dc:creator>Lenovo User</dc:creator>
  <dc:description/>
  <dc:language>en-US</dc:language>
  <cp:lastModifiedBy>Yerin</cp:lastModifiedBy>
  <cp:lastPrinted>2011-09-20T12:47:26Z</cp:lastPrinted>
  <dcterms:modified xsi:type="dcterms:W3CDTF">2012-10-25T08:34:17Z</dcterms:modified>
  <cp:revision>474</cp:revision>
  <dc:subject/>
  <dc:title>Managing Your Analytical Data and Integration via ACD/Spectrus</dc:title>
</cp:coreProperties>
</file>